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8E14-76F6-45D7-AA42-81F75F1EA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99B-1A63-4DB9-A8DE-6B15B429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269-9F7C-4D95-BFC7-AB51367D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3DB-60D2-4CF5-9AF0-8D453378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6CD-16FA-4DDA-82F5-9905CE06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B8AE-5E51-4E40-8A3B-4E6F2A27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9ABF-E8D1-430A-8833-EE3FC4E8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EE72-189F-40A6-9C3F-B1BADF0D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231A-020E-4360-8D58-5C897C31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4D59-C359-4626-ABCD-4F96E876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963D-79F1-4058-A61B-7147A8E8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4798-FBEB-4907-96EF-0EA651DC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D66-3F73-484F-939A-603D73FB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3164-2411-4E38-9E91-D11B7913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0B81-38DF-483D-8496-A84B7E49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68B6-FC33-4F6D-A291-DF4887E2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4A9A-ECA9-4189-8482-F8B96156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3854-E4E4-4AF0-B64D-9AFC8196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67678-E21D-4202-8C01-C9BCDF78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7C04A-7C04-452E-971C-0D2FA428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DF927-3EF4-4CDD-A5B9-1423EE64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007B-86C5-4F9E-B0A5-1F1F9BF7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41A6B-CBD9-4BD9-9570-60519CDB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895-874E-4076-89CE-083489A7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CCDA6-1C21-46C5-A98B-455072F1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0F414-07AD-46A9-81F3-B241AB0C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FC4E5-B3E5-4752-899C-CB40F4F6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58BC3-8A83-4412-B01B-C89CF733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E99FD-D393-4934-8721-D14EFC36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7319-7C9A-4BD5-932B-ED76B69C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08C17-622D-4662-9FD4-0BD9487C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7FB1C-65B1-41D5-A3A2-CB5795FA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3FB9B-CF88-471F-AA6C-EC66980C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4E29D-6B3D-462A-842A-7852F832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E61-4237-4F0F-AB8E-0E94D730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80998-FF34-414A-A9A8-7FD0FF15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41F38-2B82-418C-8567-6A9DAEB2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016DB-8EAA-47AA-B826-38204785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355D6-0C6D-488E-BD05-47F5A4DF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F7DB8-2157-462F-BD17-8B2AA036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F1790-A9B0-4E97-BF95-DB0761D1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EB025-607C-4BA5-8411-2E07177D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5E72-BD17-4814-83AE-53ED5D18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EE7DD-AE8A-465E-9D21-717F1FB8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FC3B1-B7F3-4D42-A619-B265525F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C7B7-8B12-4509-9978-56F77382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62580-A8BC-462A-B329-0306758E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16032-21E6-4CFE-9224-F44A9694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46E3A-3307-437D-A849-7910D31B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E8A07-33EB-417F-B835-0B897DB0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DBD6A-2D79-4314-ADB1-91901492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0EF4B-3118-4FAD-A503-1DAD7D56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BDB15-D410-41A2-9EEA-E66CC14B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8344F-9436-42E7-8931-7217A28C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8994A-2E1A-48B0-845D-44A7FD2E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E33F3-D159-49F8-9AB0-7AA44826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E426-4062-4E90-9DF6-407AB9E3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907D9-70F4-4F05-959C-90861064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F44-37EA-4D57-A633-2ECD3155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76B-4EB6-4566-8D40-AB46AC20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438-204E-4984-A788-D96D4115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0328-2932-4E35-B5D6-607DC3DC0D49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287B-EB99-4BAB-9C79-B394553C420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F519-EE36-4468-BC7C-B01BDE97C646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54D2-D04B-458A-B6B0-0C4AB858756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37B6-E93D-4557-93EB-6EECC0FF8FD7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8434-7DF9-4178-AA63-FC490107CC5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45D6-B59A-4BBF-B936-491C01CA9CC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0E52-3EAF-46C3-919A-454BD615516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CE1F-E241-4E5E-9507-795BABF430B8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94FC-5EEE-493F-926D-DDABE013A7A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4" descr="funny-pictu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 rot="18202200">
            <a:off x="1159920" y="893520"/>
            <a:ext cx="3008160" cy="932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Franklin Gothic Book"/>
              </a:rPr>
              <a:t>Topic</a:t>
            </a:r>
            <a:r>
              <a:rPr b="0" lang="en-US" sz="6500" spc="-1" strike="noStrike">
                <a:solidFill>
                  <a:srgbClr val="644646"/>
                </a:solidFill>
                <a:latin typeface="Franklin Gothic Book"/>
              </a:rPr>
              <a:t> </a:t>
            </a:r>
            <a:endParaRPr b="0" lang="en-US" sz="6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 rot="19206600">
            <a:off x="5562000" y="281916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Sense of hearing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3160" y="2174760"/>
            <a:ext cx="3963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chlea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mammals the long coiled sensory structure of the inner ear that contain receptor for sound is the cochle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ructure provide more surface area for receptor cells &amp; allow mammals greater sensitivity to pitch &amp; volume Then is present in other animals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0" name="Content Placeholder 3" descr="49_08HumanEarStructure_L.jpg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55308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cess of hearing can be summarized as follows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ir molecules under pressure vibrate the tympanic membra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ibration move the Malleus to the other side of the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handle of the Malleus strike the incus, vibrating i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Content Placeholder 8" descr="Ear.jpg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.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The vibrating incus moves the stapes back &amp; forth against the oval window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Content Placeholder 4" descr="ear3.jpg"/>
          <p:cNvPicPr/>
          <p:nvPr/>
        </p:nvPicPr>
        <p:blipFill>
          <a:blip r:embed="rId1"/>
          <a:stretch/>
        </p:blipFill>
        <p:spPr>
          <a:xfrm>
            <a:off x="4952880" y="1295280"/>
            <a:ext cx="373392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8. vibration in the cochlear      fluid dissipate  as a result of  movement of the round window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43434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ajida Batool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M.sc(III)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partment of Biological science KIU </a:t>
            </a: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505320" cy="281916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mportance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ring may initially have been important to vertebrate as a mechanism to alert them to dangerous activit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important in search for food and mates and in communication.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Content Placeholder 7" descr="ear.jpg"/>
          <p:cNvPicPr/>
          <p:nvPr/>
        </p:nvPicPr>
        <p:blipFill>
          <a:blip r:embed="rId1"/>
          <a:stretch/>
        </p:blipFill>
        <p:spPr>
          <a:xfrm>
            <a:off x="4933800" y="1484280"/>
            <a:ext cx="3749760" cy="44989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t…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ng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mans are not able to hear low pitched sounds,  below 20 cycles per second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ng children can hear high pitched sounds up to 20,000 cycles per second, but this ability decrease with ag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Content Placeholder 5" descr="400_F_24214164_WCC0rwnsJWT1hHkaubzmf0Zny0StA5qX.jpg"/>
          <p:cNvPicPr/>
          <p:nvPr/>
        </p:nvPicPr>
        <p:blipFill>
          <a:blip r:embed="rId1"/>
          <a:stretch/>
        </p:blipFill>
        <p:spPr>
          <a:xfrm>
            <a:off x="4495680" y="914400"/>
            <a:ext cx="4267440" cy="5211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uman ear has three division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middle Ear (eardrum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inn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Content Placeholder 4" descr="14304-004-6C1B7EB1[1].gif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out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 consist of th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ricle and external auditory can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14" descr="the_ear.jpg"/>
          <p:cNvPicPr/>
          <p:nvPr/>
        </p:nvPicPr>
        <p:blipFill>
          <a:blip r:embed="rId1"/>
          <a:stretch/>
        </p:blipFill>
        <p:spPr>
          <a:xfrm>
            <a:off x="4267080" y="1676520"/>
            <a:ext cx="4419720" cy="4190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iddle ear begin at the tympanic membrane and ends inside the skul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two small membranous opening, the oval and round windows , are locat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e small ossicles are  between the tympanic membrane &amp; the oval window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Content Placeholder 6" descr="Ear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2133720"/>
            <a:ext cx="3963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y include th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alleus; (hammer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cus; (anvil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tapes;(stirrup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o name for their shap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alleus adheres to the tympanic membrane &amp; connect to the incu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incus connects to the stapes, which adheres to the oval window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Content Placeholder 9" descr="ear.gif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337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inner ear has three compon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estibule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micircular can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chle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rst two, The vestibule &amp; semicircular canals, are concerned with equilibriu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movement of the fluid in the semicircular canal may cause motion sickness or seasickness in human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Content Placeholder 5" descr="Ear.jpg"/>
          <p:cNvPicPr/>
          <p:nvPr/>
        </p:nvPicPr>
        <p:blipFill>
          <a:blip r:embed="rId1"/>
          <a:stretch/>
        </p:blipFill>
        <p:spPr>
          <a:xfrm>
            <a:off x="5091120" y="1676520"/>
            <a:ext cx="359568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17:33Z</dcterms:created>
  <dc:creator>User 1</dc:creator>
  <dc:description/>
  <dc:language>en-US</dc:language>
  <cp:lastModifiedBy>LEGION2</cp:lastModifiedBy>
  <dcterms:modified xsi:type="dcterms:W3CDTF">2016-01-14T10:21:37Z</dcterms:modified>
  <cp:revision>44</cp:revision>
  <dc:subject/>
  <dc:title>Importance of hearing</dc:title>
</cp:coreProperties>
</file>